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275-3548-4F63-9343-4095FEE0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CE9-65DA-4FF5-9A27-EB9BAFE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A16-FA24-44E7-810D-EF7A07F2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9C5-E27B-46C8-8C6C-30964149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D8F-35AA-43A6-A7BD-4A1411DD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C6A0-F5F0-48CA-BAC6-EC795846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F7E-3959-4285-AA96-15721235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BFED-F94F-4CA4-B444-40DA9D3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852-22FA-4029-B176-18BD869E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FA89-9858-4B2C-AE0C-E71EE0FF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2419-BF96-4A34-9FE1-1AA67303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E6C-2A96-4CE8-A62A-B71F12DF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1938-C3B2-4B65-B5E3-8ED1082B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1F86-93BA-40AA-BF96-87580F7A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E03B-59D6-41F8-B089-797E7069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4431-9617-4D19-BBF0-E143E4F8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B2B9-79CF-40FE-932B-03458DA8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32F-79CB-4B30-BADC-C39FF0E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8E8-E61D-4787-B0B6-391BCDF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6E3-CA9C-4A47-B632-26AEDAE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C40-FC3D-4D9D-A50E-5787D4E6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6F1-30F9-4DE7-A56D-797DC54E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BA5-74CC-4252-9283-D431D65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EDD-B482-4BB2-9EBD-4EAD315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7D3-A9CE-4F36-834F-67B9F2CC57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B87-341B-4524-9924-C25B157B5D7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rnada utiliz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1066680"/>
          <a:ext cx="8305920" cy="50799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p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dazos de pescado y cabezas de camar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a, chihuil, sard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a, chihuil, manta, tiburón, pol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beza camarón, pescado, pollo, cuero de 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xaca-Chiap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scado fresco (chihuil, sap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scado fresco (chihuil, sap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09480" y="76320"/>
            <a:ext cx="7467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didas de administración a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838080"/>
          <a:ext cx="8153280" cy="5104080"/>
        </p:xfrm>
        <a:graphic>
          <a:graphicData uri="http://schemas.openxmlformats.org/drawingml/2006/table">
            <a:tbl>
              <a:tblPr/>
              <a:tblGrid>
                <a:gridCol w="1828800"/>
                <a:gridCol w="1600200"/>
                <a:gridCol w="1676160"/>
                <a:gridCol w="1524240"/>
                <a:gridCol w="152388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la mínima (mm A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ti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apturar hemb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-j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 juveniles y ovíg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ti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xaca-Chiap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 de enma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ti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66680" y="5715000"/>
            <a:ext cx="746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04040" y="6113520"/>
          <a:ext cx="9399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4040" y="6113520"/>
                    <a:ext cx="9399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7200" y="0"/>
            <a:ext cx="8229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mendacio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533520"/>
          <a:ext cx="8686800" cy="5879880"/>
        </p:xfrm>
        <a:graphic>
          <a:graphicData uri="http://schemas.openxmlformats.org/drawingml/2006/table">
            <a:tbl>
              <a:tblPr/>
              <a:tblGrid>
                <a:gridCol w="1844640"/>
                <a:gridCol w="1614600"/>
                <a:gridCol w="1692360"/>
                <a:gridCol w="14778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la y ved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hib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pa, ventanas de escape y normali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m 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urar ovígeras y juven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pa, 2 anillos de exclu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 mm 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urar ovígeras y juven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 mm Ac C. arcuatus y 120 C. bellico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urar ovígeras, juveniles y rasurad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xaca-Chiap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 mayor de 76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cad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p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m A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urar ovígeras, juven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pecificar especie captu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57200" y="152280"/>
            <a:ext cx="8229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mendacion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762120"/>
          <a:ext cx="8534520" cy="5627520"/>
        </p:xfrm>
        <a:graphic>
          <a:graphicData uri="http://schemas.openxmlformats.org/drawingml/2006/table">
            <a:tbl>
              <a:tblPr/>
              <a:tblGrid>
                <a:gridCol w="1951200"/>
                <a:gridCol w="2163600"/>
                <a:gridCol w="1676520"/>
                <a:gridCol w="274320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fuerz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d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arta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trampas por pan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a agos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b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trampas por pan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a jul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ígeras y juven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aros por panga. No incrementar número actual total esta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ígeras y juven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xaca-Chiap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ígeras y juven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57200" y="152280"/>
            <a:ext cx="8229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uesta de regu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914400"/>
          <a:ext cx="8077320" cy="5027760"/>
        </p:xfrm>
        <a:graphic>
          <a:graphicData uri="http://schemas.openxmlformats.org/drawingml/2006/table">
            <a:tbl>
              <a:tblPr/>
              <a:tblGrid>
                <a:gridCol w="1676520"/>
                <a:gridCol w="6400800"/>
              </a:tblGrid>
              <a:tr h="30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pas Chesapea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s de malla &gt; o igual a 76 m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cado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r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es de enmalle, fisgas, atarraya y aro 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lt; 76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m de mall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nada no ajena al sistema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res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lugar de extracción jaibas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enores a talla mínima 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 las mejores condiciones de sobrevivencia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y  hembras con hueva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152280"/>
            <a:ext cx="8229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uesta de regu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914400"/>
          <a:ext cx="8686800" cy="4064040"/>
        </p:xfrm>
        <a:graphic>
          <a:graphicData uri="http://schemas.openxmlformats.org/drawingml/2006/table">
            <a:tbl>
              <a:tblPr/>
              <a:tblGrid>
                <a:gridCol w="1198440"/>
                <a:gridCol w="748836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turar, poseer, transportar, comercializar o procesar hembras ovígeras o rasuradas (liberadas de la masa ovígera).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ínima de captura de 95 mm Ac para </a:t>
                      </a:r>
                      <a:r>
                        <a:rPr b="0" i="1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. arcuatus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de 110 mm Ac para </a:t>
                      </a:r>
                      <a:r>
                        <a:rPr b="0" i="1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. bellicosus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y de 120 mm de Ac para </a:t>
                      </a:r>
                      <a:r>
                        <a:rPr b="0" i="1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. toxotes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57200" y="152280"/>
            <a:ext cx="8229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uesta de regu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280" y="914400"/>
          <a:ext cx="8686800" cy="335268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ib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berán desembarcarse entera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scadores y permisionari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en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olver al mar los ejemplares que no cumplan con las especificaciones de talla mínima, así como jaibas hembras en estado avanzado de madurez reproductiva (hembras con hueva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7200" y="152280"/>
            <a:ext cx="8229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uesta de regu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914400"/>
          <a:ext cx="8458200" cy="4648320"/>
        </p:xfrm>
        <a:graphic>
          <a:graphicData uri="http://schemas.openxmlformats.org/drawingml/2006/table">
            <a:tbl>
              <a:tblPr/>
              <a:tblGrid>
                <a:gridCol w="1676520"/>
                <a:gridCol w="6781680"/>
              </a:tblGrid>
              <a:tr h="46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fuerz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número de trampas, aros y sacadores por embarcación no deberá excederse ni aumentarse el número de embarcaciones menores, para Baja California Sur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, Sinaloa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y Sonora respecto al número de artes y embarcaciones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mente utilizadas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 P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a Oaxaca,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hiapas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y el resto de los Estados, 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ablecerlo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 base a estudios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57200" y="152280"/>
            <a:ext cx="8229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mendación 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752480"/>
          <a:ext cx="8458200" cy="1676520"/>
        </p:xfrm>
        <a:graphic>
          <a:graphicData uri="http://schemas.openxmlformats.org/drawingml/2006/table">
            <a:tbl>
              <a:tblPr/>
              <a:tblGrid>
                <a:gridCol w="1676520"/>
                <a:gridCol w="67816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visar las disposiciones y estrategias de manejo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poca de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219320"/>
          <a:ext cx="8153640" cy="4275000"/>
        </p:xfrm>
        <a:graphic>
          <a:graphicData uri="http://schemas.openxmlformats.org/drawingml/2006/table">
            <a:tbl>
              <a:tblPr/>
              <a:tblGrid>
                <a:gridCol w="1791000"/>
                <a:gridCol w="2323800"/>
                <a:gridCol w="2210040"/>
                <a:gridCol w="182880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bellicos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arcu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toxo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io-sep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-di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-jul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-agos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-agos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xaca-Chiap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-jul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-jul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urvas de cre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809880"/>
          <a:ext cx="4676760" cy="259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9880"/>
                    <a:ext cx="4676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990720"/>
          <a:ext cx="4676760" cy="259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990720"/>
                    <a:ext cx="46767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724280" y="1752480"/>
          <a:ext cx="4419720" cy="2448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1752480"/>
                    <a:ext cx="4419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recimiento en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120" y="-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Oax13" descr=""/>
          <p:cNvPicPr/>
          <p:nvPr/>
        </p:nvPicPr>
        <p:blipFill>
          <a:blip r:embed="rId3"/>
          <a:stretch/>
        </p:blipFill>
        <p:spPr>
          <a:xfrm>
            <a:off x="2895480" y="990720"/>
            <a:ext cx="329112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lla de reclutamiento reprod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05120" y="914400"/>
          <a:ext cx="480060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914400"/>
                    <a:ext cx="4800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8600" y="914400"/>
            <a:ext cx="166068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C. arcuat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906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905120" y="3809880"/>
            <a:ext cx="4800600" cy="247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3886200"/>
            <a:ext cx="166068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C. bellico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76320"/>
            <a:ext cx="7467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ción y comercialización del produ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066680"/>
            <a:ext cx="746784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lat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mbo lump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arne blanca de las patas natato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ump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arne blanca de las patas natatorias fragmentad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ackfi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arne blanca del cuerpo en piezas pequeñas y enteras de las extremidades 2 a la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peci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arne blanca del cuerpo desheb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law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arne oscura de la tena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cktail claw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arne oscura adherida a la tenaz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rcad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era y pul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era ovígera (Chiap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rcad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Local y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7200" y="380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antes en la pesqu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371600"/>
          <a:ext cx="6095880" cy="408924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1219320"/>
                <a:gridCol w="15238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isos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(53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(47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 (77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(23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10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(90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14400" y="554688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76320"/>
            <a:ext cx="746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fuerzo aplic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914400"/>
          <a:ext cx="8610480" cy="4781520"/>
        </p:xfrm>
        <a:graphic>
          <a:graphicData uri="http://schemas.openxmlformats.org/drawingml/2006/table">
            <a:tbl>
              <a:tblPr/>
              <a:tblGrid>
                <a:gridCol w="1828800"/>
                <a:gridCol w="1600200"/>
                <a:gridCol w="1447560"/>
                <a:gridCol w="1600200"/>
                <a:gridCol w="2133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p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ch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scado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8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8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,0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8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28600" y="5638680"/>
            <a:ext cx="74674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os ofi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**Calculados en ca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153280" y="6014880"/>
          <a:ext cx="939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6014880"/>
                    <a:ext cx="939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76320"/>
            <a:ext cx="7467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ndimiento de la captura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914400"/>
          <a:ext cx="7543800" cy="5045040"/>
        </p:xfrm>
        <a:graphic>
          <a:graphicData uri="http://schemas.openxmlformats.org/drawingml/2006/table">
            <a:tbl>
              <a:tblPr/>
              <a:tblGrid>
                <a:gridCol w="2036880"/>
                <a:gridCol w="2297160"/>
                <a:gridCol w="1352520"/>
                <a:gridCol w="1857240"/>
              </a:tblGrid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es de k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úmero de ar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UE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C.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8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lo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,0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xaca-Chiap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57200" y="6095880"/>
            <a:ext cx="746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g/trampa/día (240 días labor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9:10:42Z</dcterms:created>
  <dc:creator>DGIEMRP INP</dc:creator>
  <dc:description/>
  <dc:language>en-US</dc:language>
  <cp:lastModifiedBy> DGOPA</cp:lastModifiedBy>
  <dcterms:modified xsi:type="dcterms:W3CDTF">2003-12-19T21:33:48Z</dcterms:modified>
  <cp:revision>181</cp:revision>
  <dc:subject/>
  <dc:title>Presentación de PowerPoint</dc:title>
</cp:coreProperties>
</file>